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E575-F3C3-4FA6-A977-50BAA352E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5979-FE82-48DE-97C5-539562476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46A3-ACC5-4F7B-A73E-90B708615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6A10-8B4B-41AB-BFA8-0558197849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9570-4A73-4373-9108-4F0B9A913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54A1-B079-4CF4-A34B-74FC0BE22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58A8-61EA-48C6-B0A5-9EF14583E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21D3-A0E1-44BA-845F-27ECBF256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A207-3943-4879-9730-9EF7FADC9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458A-1D81-4632-B17C-726902268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C8DA-EEBB-4F8A-B472-F53BA9D6F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DCA7-FBF3-4365-B9B3-F668AC734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18A2-C338-4BE1-9B3C-C75560F2D7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07E8-9B26-4CEC-A1B6-7B07846328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C443-E41B-4F40-B6AA-117F77703C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4DEB-F60C-436C-ADFD-9D9396A32E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EDDE-5977-4191-B027-D5C14EE8E4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3640-AEEC-4685-B503-B0D057BAD7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.yearley</cp:lastModifiedBy>
  <dcterms:modified xsi:type="dcterms:W3CDTF">2012-06-07T15:03:01Z</dcterms:modified>
  <cp:revision>9</cp:revision>
  <dc:subject/>
  <dc:title>&lt;Title&gt;</dc:title>
</cp:coreProperties>
</file>